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C38-20E5-40C4-9397-AECED017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1EC-5915-4DE9-8329-1A6F34E0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B1B-6E47-4641-902B-F80C89B8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FC6-673D-4DE5-B8A3-03E63187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AC0-0894-4394-B70F-591A6BF1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A37-C089-4EA9-9185-6274161D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0F1-EFCC-435A-9FCF-CA38F1BD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C35-E70C-417F-9B3D-76D3569E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C8A-CD9E-4713-BAE7-DF5AA618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20E-97F1-4519-81B0-2703A834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A53-A376-4CA6-8E4E-4F6F29A4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65D-5CD1-493D-9783-F472B238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5B74D-5304-453A-9D15-3B1DDAD1DB0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4400" spc="-1" strike="noStrike">
                <a:solidFill>
                  <a:srgbClr val="0000ff"/>
                </a:solidFill>
                <a:latin typeface="Calibri"/>
              </a:rPr>
              <a:t>Slovakia is waiting for You –</a:t>
            </a:r>
            <a:br>
              <a:rPr sz="4400"/>
            </a:br>
            <a:r>
              <a:rPr b="1" lang="sk-SK" sz="4400" spc="-1" strike="noStrike">
                <a:solidFill>
                  <a:srgbClr val="0000ff"/>
                </a:solidFill>
                <a:latin typeface="Calibri"/>
              </a:rPr>
              <a:t>in May 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09520"/>
            <a:ext cx="640080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98E51-4AE7-4C39-AA46-222BD11D752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Logo ASL SR.png"/>
          <p:cNvPicPr/>
          <p:nvPr/>
        </p:nvPicPr>
        <p:blipFill>
          <a:blip r:embed="rId1"/>
          <a:stretch/>
        </p:blipFill>
        <p:spPr>
          <a:xfrm>
            <a:off x="2611440" y="2092320"/>
            <a:ext cx="3921120" cy="39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85px-Coat_of_Arms_of_Slovakia.svg.png"/>
          <p:cNvPicPr/>
          <p:nvPr/>
        </p:nvPicPr>
        <p:blipFill>
          <a:blip r:embed="rId2"/>
          <a:stretch/>
        </p:blipFill>
        <p:spPr>
          <a:xfrm>
            <a:off x="6692760" y="5010120"/>
            <a:ext cx="1079640" cy="1346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125px-Flag_of_Slovakia.svg.png"/>
          <p:cNvPicPr/>
          <p:nvPr/>
        </p:nvPicPr>
        <p:blipFill>
          <a:blip r:embed="rId3"/>
          <a:stretch/>
        </p:blipFill>
        <p:spPr>
          <a:xfrm>
            <a:off x="1023840" y="4968720"/>
            <a:ext cx="15876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Image-2.aspx.jpeg"/>
          <p:cNvPicPr/>
          <p:nvPr/>
        </p:nvPicPr>
        <p:blipFill>
          <a:blip r:embed="rId1"/>
          <a:srcRect l="-15290" t="0" r="-15290" b="0"/>
          <a:stretch/>
        </p:blipFill>
        <p:spPr>
          <a:xfrm>
            <a:off x="457200" y="14320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B59B8-B0DA-44E6-B6EB-2A61805D6C66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Image-4.aspx.jpeg"/>
          <p:cNvPicPr/>
          <p:nvPr/>
        </p:nvPicPr>
        <p:blipFill>
          <a:blip r:embed="rId1"/>
          <a:srcRect l="-10493" t="0" r="-10493" b="0"/>
          <a:stretch/>
        </p:blipFill>
        <p:spPr>
          <a:xfrm>
            <a:off x="457200" y="12938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54B2B-3A74-4F9A-BE7F-FFFDEC677EC7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Image-3.aspx.jpeg"/>
          <p:cNvPicPr/>
          <p:nvPr/>
        </p:nvPicPr>
        <p:blipFill>
          <a:blip r:embed="rId1"/>
          <a:srcRect l="-26196" t="0" r="-26196" b="0"/>
          <a:stretch/>
        </p:blipFill>
        <p:spPr>
          <a:xfrm>
            <a:off x="457200" y="1139760"/>
            <a:ext cx="8555040" cy="4705560"/>
          </a:xfrm>
          <a:prstGeom prst="rect">
            <a:avLst/>
          </a:prstGeom>
          <a:ln w="0">
            <a:noFill/>
          </a:ln>
        </p:spPr>
      </p:pic>
      <p:sp>
        <p:nvSpPr>
          <p:cNvPr id="10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8C889-889D-4A03-9A20-AF139CAB2AC2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3" descr="Image.aspx.jpeg"/>
          <p:cNvPicPr/>
          <p:nvPr/>
        </p:nvPicPr>
        <p:blipFill>
          <a:blip r:embed="rId1"/>
          <a:srcRect l="-10328" t="0" r="-10328" b="0"/>
          <a:stretch/>
        </p:blipFill>
        <p:spPr>
          <a:xfrm>
            <a:off x="596880" y="13208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17E28-52DD-407F-B550-9E6417FEE421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3" descr="Image-10.aspx.jpeg"/>
          <p:cNvPicPr/>
          <p:nvPr/>
        </p:nvPicPr>
        <p:blipFill>
          <a:blip r:embed="rId1"/>
          <a:srcRect l="-86617" t="0" r="-86617" b="0"/>
          <a:stretch/>
        </p:blipFill>
        <p:spPr>
          <a:xfrm>
            <a:off x="457200" y="12938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A0DD1-7564-4D47-98F5-49C161B416FE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579F2-366F-4C89-B3CC-E9E48ACA5929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14" descr="img-4.php.jpeg"/>
          <p:cNvPicPr/>
          <p:nvPr/>
        </p:nvPicPr>
        <p:blipFill>
          <a:blip r:embed="rId1"/>
          <a:srcRect l="-40882" t="0" r="-40882" b="0"/>
          <a:stretch/>
        </p:blipFill>
        <p:spPr>
          <a:xfrm>
            <a:off x="-642960" y="942840"/>
            <a:ext cx="5937120" cy="3265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img-3.php.jpeg"/>
          <p:cNvPicPr/>
          <p:nvPr/>
        </p:nvPicPr>
        <p:blipFill>
          <a:blip r:embed="rId2"/>
          <a:stretch/>
        </p:blipFill>
        <p:spPr>
          <a:xfrm>
            <a:off x="3538440" y="3843360"/>
            <a:ext cx="2513160" cy="2513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img-1.php.jpeg"/>
          <p:cNvPicPr/>
          <p:nvPr/>
        </p:nvPicPr>
        <p:blipFill>
          <a:blip r:embed="rId3"/>
          <a:stretch/>
        </p:blipFill>
        <p:spPr>
          <a:xfrm>
            <a:off x="4290840" y="170964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img-2.php.jpeg"/>
          <p:cNvPicPr/>
          <p:nvPr/>
        </p:nvPicPr>
        <p:blipFill>
          <a:blip r:embed="rId4"/>
          <a:stretch/>
        </p:blipFill>
        <p:spPr>
          <a:xfrm>
            <a:off x="6019920" y="942840"/>
            <a:ext cx="2422440" cy="242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img-6.php.jpeg"/>
          <p:cNvPicPr/>
          <p:nvPr/>
        </p:nvPicPr>
        <p:blipFill>
          <a:blip r:embed="rId5"/>
          <a:stretch/>
        </p:blipFill>
        <p:spPr>
          <a:xfrm>
            <a:off x="6553080" y="40705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671C3-E4CB-480A-A3E1-0D7EE077CC8B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ontent Placeholder 12" descr="Image-1.ashx.jpeg"/>
          <p:cNvPicPr/>
          <p:nvPr/>
        </p:nvPicPr>
        <p:blipFill>
          <a:blip r:embed="rId1"/>
          <a:srcRect l="-10673" t="0" r="-1067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600" spc="-1" strike="noStrike">
                <a:solidFill>
                  <a:srgbClr val="ff0000"/>
                </a:solidFill>
                <a:latin typeface="Calibri"/>
              </a:rPr>
              <a:t>See You in Bratislava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Content Placeholder 3" descr="Image-1.ashx.jpeg"/>
          <p:cNvPicPr/>
          <p:nvPr/>
        </p:nvPicPr>
        <p:blipFill>
          <a:blip r:embed="rId1"/>
          <a:srcRect l="-10902" t="0" r="-10902" b="0"/>
          <a:stretch/>
        </p:blipFill>
        <p:spPr>
          <a:xfrm>
            <a:off x="457200" y="14176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DF854-B248-480B-A5E6-77690B4D0479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Slovakia 5.5 milion inhabitans</a:t>
            </a:r>
            <a:br>
              <a:rPr sz="3200"/>
            </a:b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49.035 km2</a:t>
            </a:r>
            <a:br>
              <a:rPr sz="3200"/>
            </a:b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GDP:  16.046 USD  /ppp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06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3200" spc="-1" strike="noStrike">
                <a:solidFill>
                  <a:srgbClr val="898989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C08E6-40B7-414A-9F6C-DD3ABC16E85D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60px-Europe_location_SVK.png"/>
          <p:cNvPicPr/>
          <p:nvPr/>
        </p:nvPicPr>
        <p:blipFill>
          <a:blip r:embed="rId1"/>
          <a:stretch/>
        </p:blipFill>
        <p:spPr>
          <a:xfrm>
            <a:off x="1706400" y="2022480"/>
            <a:ext cx="53438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73080" y="209160"/>
            <a:ext cx="8950320" cy="24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om 1000 to 1867 – part of Hungary</a:t>
            </a:r>
            <a:br>
              <a:rPr sz="3200"/>
            </a:b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om 1867 – 1918 Austrian-Hungarian Monarchy</a:t>
            </a:r>
            <a:br>
              <a:rPr sz="3200"/>
            </a:b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om 1918 to 1991 – Czechoslovakia</a:t>
            </a:r>
            <a:br>
              <a:rPr sz="3200"/>
            </a:b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om 1991 indepedent state</a:t>
            </a:r>
            <a:br>
              <a:rPr sz="3200"/>
            </a:b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2005 – member of EU,  2009 – euro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B35E1-3278-47C5-9EDF-FADD1C5995F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9" descr="220px-Un-slovakia.png"/>
          <p:cNvPicPr/>
          <p:nvPr/>
        </p:nvPicPr>
        <p:blipFill>
          <a:blip r:embed="rId1"/>
          <a:srcRect l="-17739" t="0" r="-17739" b="0"/>
          <a:stretch/>
        </p:blipFill>
        <p:spPr>
          <a:xfrm>
            <a:off x="2773440" y="3014640"/>
            <a:ext cx="56102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267E5-0FC6-4296-AE73-DF6A8C222721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81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primary care physician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8000"/>
                </a:solidFill>
                <a:latin typeface="Calibri"/>
              </a:rPr>
              <a:t>more than 95% are self-employ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ambulatory care specialist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8000"/>
                </a:solidFill>
                <a:latin typeface="Calibri"/>
              </a:rPr>
              <a:t>more than 60% are self-employ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more than 90% of income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om public  health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AA3C2-89F5-483E-B4A2-8E175A22770B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81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ee cho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of physic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of health insurance f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Association of Private Physician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more than 3.500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sk-SK" sz="2800" spc="-1" strike="noStrike">
                <a:solidFill>
                  <a:srgbClr val="0000ff"/>
                </a:solidFill>
                <a:latin typeface="Calibri"/>
              </a:rPr>
              <a:t>/more than 50% of all private physicians/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 – little big c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49BD7-F9B6-4F13-A742-B48FF9FC6DD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Small proble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Directly fly on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from Amsterdam, Dublin, London, Milan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Paris,Brussels, Rome, Barcelona, Malag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Calibri"/>
              </a:rPr>
              <a:t>But : to Vienna airport 45km on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Image-7.aspx.jpeg"/>
          <p:cNvPicPr/>
          <p:nvPr/>
        </p:nvPicPr>
        <p:blipFill>
          <a:blip r:embed="rId1"/>
          <a:srcRect l="-76586" t="0" r="-76586" b="0"/>
          <a:stretch/>
        </p:blipFill>
        <p:spPr>
          <a:xfrm>
            <a:off x="457200" y="13064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3BFC9-C731-4D26-9D8F-030696624D9D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Image-5.aspx.jpeg"/>
          <p:cNvPicPr/>
          <p:nvPr/>
        </p:nvPicPr>
        <p:blipFill>
          <a:blip r:embed="rId1"/>
          <a:srcRect l="-14630" t="0" r="-14630" b="0"/>
          <a:stretch/>
        </p:blipFill>
        <p:spPr>
          <a:xfrm>
            <a:off x="457200" y="14889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AB1C4-E51C-481B-8B75-BAB1EDB29C3B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alibri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Image.aspx copy.jpeg"/>
          <p:cNvPicPr/>
          <p:nvPr/>
        </p:nvPicPr>
        <p:blipFill>
          <a:blip r:embed="rId1"/>
          <a:srcRect l="-10493" t="0" r="-10493" b="0"/>
          <a:stretch/>
        </p:blipFill>
        <p:spPr>
          <a:xfrm>
            <a:off x="457200" y="1376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72F9D-165E-4D0F-B2EF-341B9B90EB4F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ratislava, Slova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0:57:36Z</dcterms:created>
  <dc:creator>Ladislav Pásztor</dc:creator>
  <dc:description/>
  <dc:language>en-US</dc:language>
  <cp:lastModifiedBy>Ladislav Pásztor</cp:lastModifiedBy>
  <dcterms:modified xsi:type="dcterms:W3CDTF">2011-11-19T07:51:31Z</dcterms:modified>
  <cp:revision>6</cp:revision>
  <dc:subject/>
  <dc:title>Slovakia waiting for You – May  2012</dc:title>
</cp:coreProperties>
</file>